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10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ED3D2-E117-4507-830A-17ED5BBB9F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2F297-3AA7-44FA-A852-7A9D9CF418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DB1DA-EBE4-4B25-86E8-B22DCEFD18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1FC5F-A348-4C72-8B49-A11FC97371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05A52D-7E65-4927-8791-3AE314B1D6D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F5C5DC-7FD2-41F9-96E1-72652ECAA1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2862F0-D873-43E1-90E6-5E13CFA3876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F58119-4C84-465B-A8B1-F7B694760E5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CEB045-9471-4FE3-9269-F0A10A76A51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2B69E9-EEDD-4101-B643-8C7BD4C0C4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D8077C-58BA-469B-B946-B85B2EAFB64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C8EAF0-3341-4E75-9A95-6332CE830EE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0CFD61C-2430-4492-8C93-20D9B5D5DE5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95DF7E-2E84-4A06-B328-20390F2E373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F7D39D-0C65-4D42-A847-3F1B662C9B3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B226D-623A-42B0-86C7-EE85DE6E39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D19C6-5843-4311-BF84-26012758BD31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687BC-26FB-4F69-BFCC-DAA41393790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5DE08-2314-4101-A79A-117F3105F93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10DD7-80DE-48FB-AB53-84698811E6F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EEB47-6D16-4FEB-83BC-6E28C5420AD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1B2A0-8450-4505-995F-09240EA9DB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8F987-2A91-46B1-94CD-33FED8E270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3C861-D1B5-4167-8392-196D495C347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48F4-D060-4E2C-BC25-D151236CB2D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769B8-4CF5-4071-BB3E-E3243803B0E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20AA1-80FE-466B-B110-C9D2B79411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29F49-0F61-480B-9878-1FFEA27CE15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B2B5D-2BA1-433E-ABAA-96905A91111E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22D9E-4E33-4E23-BC31-04AB2A174D3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62988F-D4F0-43A7-8C66-0F5124551FA4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70EEA8-7C25-4E4B-864F-ED871EAAC0F0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33A08D-80BD-4816-A1B5-CB1C833B12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D38E1B-77CA-4E34-BAE1-DA80CA5D009F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C7635A-AB53-46F3-A75F-B10B8B65E898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3F3782C-CB1C-4E1C-8E9C-4BD76AB312C7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BEBD7D-D094-43B0-8457-2D810C229791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03C1F3-4884-453C-AB2D-1B56ADD6A74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444749-B08B-4A64-B410-8F6D011A59B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B3BE7-5330-4493-9B78-4B6E4B06F2F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794658-AD5D-4C3F-A20C-5BC390F3651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EC58570-EC10-48F3-B808-C0BCBE7BB7F2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CA9BAA-9FD7-40C4-BC5B-459818E6F1D1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7D3FC9-DE8A-4E4F-A268-0558875F5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BFC832-8606-4FEC-B5E1-6C646206E6D1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FE2461-FE10-43B8-94B9-AC226DE39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458E62-D4FC-448B-B99B-F47EF8760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BB4A9CB-96D8-45E3-9F1B-E6D085B78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19421B-19C5-4279-AD12-F13DAD9D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81DC34E-99EA-41E9-BD14-C3F1465D1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2D17BB-797A-478E-9CEE-06CBA5DD5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6619209-2704-4603-BE0D-6E641305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39BDBE-ADFC-4254-8293-C4712DF8A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36ACF57-D6E1-4DE9-8FDF-74DE56B5B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6B5939D-719A-40E9-8565-A35ED1C4B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2F4FF7-F2A4-4891-8B34-96AF86C8E766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EC4CA5C-2178-443C-968E-9837ACD9A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ED09DAF-8E67-4EC3-8FE5-9C06656C5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5B276A-9758-4DE3-B468-617956F6B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8950F1-A15C-42E3-BC41-3490D3215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23B1441-0A75-4B61-B2A6-EACB5CA99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FAE8BD-34A1-486C-8FC3-BF212336A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4AB676C-A000-4D5C-A3D0-C507BB747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677AFAF-172D-48D6-B8DF-214D810A6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F7287C0-C6C9-4E93-A9D4-9D265893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485D2D-306A-424E-AA3A-83FA6223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1A7AD9-C1D2-42AD-9C10-A9A973D930D9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3264073-6617-4EE6-9DE0-9AC6E9E0A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589593-6F33-46E8-9490-B48C60F39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69421C-7CE9-442A-BB8F-7D54A5176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E8C53-039D-4A65-97B1-47B5EE81360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278F40-1A4B-4E7C-8081-9478F32AD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912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E5EE6-DF3F-4C9B-9862-66580010229C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5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60912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C6AD85-A99B-49EA-A11D-D22D09E2BDDC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4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5"/>
          </p:nvPr>
        </p:nvSpPr>
        <p:spPr>
          <a:xfrm>
            <a:off x="685440" y="647676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5834-37B7-44D8-84A1-94F264EF77B6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4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5"/>
          <a:stretch/>
        </p:blipFill>
        <p:spPr>
          <a:xfrm>
            <a:off x="3981600" y="1898640"/>
            <a:ext cx="1180800" cy="3060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7"/>
          </p:nvPr>
        </p:nvSpPr>
        <p:spPr>
          <a:xfrm>
            <a:off x="60912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8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69D8-BAA0-4459-BC1E-45954329B027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4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0"/>
          </p:nvPr>
        </p:nvSpPr>
        <p:spPr>
          <a:xfrm>
            <a:off x="60912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1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A9BBB-E320-4718-823A-42100634F70A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4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3"/>
          </p:nvPr>
        </p:nvSpPr>
        <p:spPr>
          <a:xfrm>
            <a:off x="60912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4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8458D-FEB2-483E-B93D-5B82F107D84B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0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5000" spc="-1" strike="noStrike">
                <a:solidFill>
                  <a:srgbClr val="c00000"/>
                </a:solidFill>
                <a:latin typeface="Calibri"/>
              </a:rPr>
              <a:t>III Miten Euroopan unioni toimii?</a:t>
            </a:r>
            <a:endParaRPr b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933720"/>
            <a:ext cx="6400800" cy="26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ppikirjan sivut 69 - 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7. Kuka päättää, mistä ja mi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8. Suomi Euroopan unioni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D9AA-C60F-4642-B2AB-A90FFA94055F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Kuva 7" descr=""/>
          <p:cNvPicPr/>
          <p:nvPr/>
        </p:nvPicPr>
        <p:blipFill>
          <a:blip r:embed="rId1"/>
          <a:stretch/>
        </p:blipFill>
        <p:spPr>
          <a:xfrm>
            <a:off x="1908000" y="393372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Täydentäviä toimielimiä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alvontatehtäviss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Euroopan unionin tuomioistu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tilintarkastustuomioistu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Euroopan oikeusasiam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euvontatehtäviss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talous- ja sosiaalikomit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alueiden komit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Euroopan keskuspankki ja investointipank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4F0F7-7EC2-445A-BA11-07989D557CB1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Kuva 7" descr=""/>
          <p:cNvPicPr/>
          <p:nvPr/>
        </p:nvPicPr>
        <p:blipFill>
          <a:blip r:embed="rId3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roopan unionin tuomioistuin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ijaitsee Luxemburgissa, yksi tuomari jokaisesta jäsenma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uomiovalta asioissa, joista unioni päättä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huolehtii, että eurooppaoikeutta tulkitaan, sovelletaan ja noudatetaan samoin koko Euroopan unionin alue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ansalaiset voivat tehdä tuomioistuimelle kanteluja EU:n toimielinten menettelyst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8D457-4C57-4915-AC6C-06E25CFD252B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Kuva 7" descr=""/>
          <p:cNvPicPr/>
          <p:nvPr/>
        </p:nvPicPr>
        <p:blipFill>
          <a:blip r:embed="rId5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5712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Tilintarkastustuomioistuin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arkastaa unionin talousarvio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armistaa, että varoja on hallinnoitu moitteettoma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ikeus tarkastaa kaikkien EU:n varoja käsitelleiden organisaatioiden til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 tarvittaessa viedä asian unionin tuomioistuimen käsiteltävä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344D-26BF-4679-932C-D14F3E1B8BE9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Kuva 7" descr=""/>
          <p:cNvPicPr/>
          <p:nvPr/>
        </p:nvPicPr>
        <p:blipFill>
          <a:blip r:embed="rId5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05264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Täydentävien toimielinten tehtäväkentä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roopan talous- ja sosiaalikomi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edustaa kansalaisyhteiskuntaa ja työmarkkinaosapuol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roopan unionin alueiden komit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edustaa alueellisia ja paikallisia yhteisöj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roopan keskuspank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vastaa euroalueen rahapolitiikasta ja määrää ohjauskor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21C8-B609-4C70-8F98-55FE2C3F6B9D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Kuva 7" descr=""/>
          <p:cNvPicPr/>
          <p:nvPr/>
        </p:nvPicPr>
        <p:blipFill>
          <a:blip r:embed="rId5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 txBox="1"/>
          <p:nvPr/>
        </p:nvSpPr>
        <p:spPr>
          <a:xfrm>
            <a:off x="457200" y="112356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roopan investointipank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rahoittaa EU:n investointihankkei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roopan oikeusasiam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suojelee EU:n kansalaisia, yrityksiä ja järjestöjä hallinnollisilta epäkohdil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Ellipsi 3"/>
          <p:cNvSpPr/>
          <p:nvPr/>
        </p:nvSpPr>
        <p:spPr>
          <a:xfrm>
            <a:off x="1258920" y="3860640"/>
            <a:ext cx="5857920" cy="214344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Lisäksi Euroopan unionilla on 19 erillisvirastoa ja –laitosta, jotka hoitavat tiettyjä tieteellisiä, teknisiä tai hallinnollisia tehtäviä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A0BE3-D315-4227-9F3C-7A34BF693F01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Kuva 7" descr=""/>
          <p:cNvPicPr/>
          <p:nvPr/>
        </p:nvPicPr>
        <p:blipFill>
          <a:blip r:embed="rId3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71680" y="112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800000"/>
                </a:solidFill>
                <a:latin typeface="Calibri"/>
              </a:rPr>
              <a:t>Päätöksenteko Euroopan unionissa</a:t>
            </a:r>
            <a:br>
              <a:rPr sz="4000"/>
            </a:b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komissio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almistelee ja tekee lakialoitte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akialoitteen voivat tehdä myös unionin kansalaiset (kansalaisaloitteella oltava 1 miljoona allekirjoittajaa ¼ jäsenvaltiois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ministerineuvosto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ja </a:t>
            </a:r>
            <a:r>
              <a:rPr b="0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parlamentti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säätävät lait (vrt. ero Suomen lainsäädäntöö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hdottaessaan uutta lakia komissio valitsee päätöksentekota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3 vaihtoehtoa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7484-A0B2-4899-B14D-3BF8A324D83A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Kuva 7" descr=""/>
          <p:cNvPicPr/>
          <p:nvPr/>
        </p:nvPicPr>
        <p:blipFill>
          <a:blip r:embed="rId5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 txBox="1"/>
          <p:nvPr/>
        </p:nvSpPr>
        <p:spPr>
          <a:xfrm>
            <a:off x="46836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)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kuulemismenettely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arlamentti antaa vain </a:t>
            </a:r>
            <a:r>
              <a:rPr b="0" i="1" lang="fi-FI" sz="2800" spc="-1" strike="noStrike">
                <a:solidFill>
                  <a:srgbClr val="000000"/>
                </a:solidFill>
                <a:latin typeface="Calibri"/>
              </a:rPr>
              <a:t>lausunnon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la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inisterineuvosto päättä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hyväksyntämenettely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inisterineuvoston saatava </a:t>
            </a:r>
            <a:r>
              <a:rPr b="0" i="1" lang="fi-FI" sz="2800" spc="-1" strike="noStrike">
                <a:solidFill>
                  <a:srgbClr val="000000"/>
                </a:solidFill>
                <a:latin typeface="Calibri"/>
              </a:rPr>
              <a:t>parlamentin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i-FI" sz="2800" spc="-1" strike="noStrike">
                <a:solidFill>
                  <a:srgbClr val="000000"/>
                </a:solidFill>
                <a:latin typeface="Calibri"/>
              </a:rPr>
              <a:t>suostumus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käsiteltävään laki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arlamentti voi hyväksyä tai hylätä lain sellaisenaan, mutta ei saa muuttaa lain sisältö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ian numeron paikkamerkki 2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04D3F-96F5-420F-8510-3DBAB53EEE99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latunnisteen paikkamerkki 3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Kuva 7" descr=""/>
          <p:cNvPicPr/>
          <p:nvPr/>
        </p:nvPicPr>
        <p:blipFill>
          <a:blip r:embed="rId5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00040" y="1483920"/>
            <a:ext cx="8229600" cy="469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yhteispäätösmenettely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= tavallinen lainsäätämisjärjest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arlamentti ja ministerineuvosto </a:t>
            </a:r>
            <a:r>
              <a:rPr b="0" i="1" lang="fi-FI" sz="2800" spc="-1" strike="noStrike">
                <a:solidFill>
                  <a:srgbClr val="000000"/>
                </a:solidFill>
                <a:latin typeface="Calibri"/>
              </a:rPr>
              <a:t>päättävät yhdessä,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-3 käsittely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hteispäätösmenettely vahvistaa parlamentin asem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äytetty esim. seuraavissa asioissa: sisämarkkinat, liikkuvuus, koulutus, kulutus ja terve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arlamentti voi hylätä neuvoston päätök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Dian numeron paikkamerkki 2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43F58-26DB-45C4-B17D-F0E80E258F22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latunnisteen paikkamerkki 3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Kuva 7" descr=""/>
          <p:cNvPicPr/>
          <p:nvPr/>
        </p:nvPicPr>
        <p:blipFill>
          <a:blip r:embed="rId5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:n säädöstyypi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)   </a:t>
            </a:r>
            <a:r>
              <a:rPr b="0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ase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ulee voimaan sellaisenaan koko union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ue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etuksen kanssa ristiriidassa oleva kansallinen laki on kumotta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huom. ero Suomen lainsäädäntöön: Suomessa asetus = lakia tarkentavat ohjeet lain täytäntöönpanoa vart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8343-FA28-4414-8DE3-5BE2263E68C1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Kuva 7" descr=""/>
          <p:cNvPicPr/>
          <p:nvPr/>
        </p:nvPicPr>
        <p:blipFill>
          <a:blip r:embed="rId4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53964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2) </a:t>
            </a:r>
            <a:r>
              <a:rPr b="0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direktii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ainsäädäntöoh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yrkimys yhdenmukaisiin lakeihin EU: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ansalliset lait muutettava direktiivin mukaisiksi määräajan sisäll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3) </a:t>
            </a:r>
            <a:r>
              <a:rPr b="0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päätö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itoo kaikkia, joille se on tarkoitettu, es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äsenvaltio tai yrit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itoo vain vastaanottaj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Dian numeron paikkamerkki 2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05B82-9741-4BC7-A53A-0311F2FE0BA0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Alatunnisteen paikkamerkki 3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Kuva 7" descr=""/>
          <p:cNvPicPr/>
          <p:nvPr/>
        </p:nvPicPr>
        <p:blipFill>
          <a:blip r:embed="rId6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5000" spc="-1" strike="noStrike">
                <a:solidFill>
                  <a:srgbClr val="000000"/>
                </a:solidFill>
                <a:latin typeface="Calibri"/>
              </a:rPr>
              <a:t>7 Kuka päättää, mistä ja miten?</a:t>
            </a:r>
            <a:endParaRPr b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619280" y="3581280"/>
            <a:ext cx="5865840" cy="3276720"/>
          </a:xfrm>
          <a:prstGeom prst="rect">
            <a:avLst/>
          </a:prstGeom>
          <a:noFill/>
          <a:ln w="9360">
            <a:solidFill>
              <a:srgbClr val="bbe0e3"/>
            </a:solidFill>
            <a:miter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ppikirjan sivut 70-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Ydinsisällö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untitehtäv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ppikirjan tehtävien vastauk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780A4-8BBD-4641-AE0C-56E5DFE1FAC3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Kuva 7" descr=""/>
          <p:cNvPicPr/>
          <p:nvPr/>
        </p:nvPicPr>
        <p:blipFill>
          <a:blip r:embed="rId1"/>
          <a:stretch/>
        </p:blipFill>
        <p:spPr>
          <a:xfrm>
            <a:off x="2556000" y="3860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271" name="Kuva 9" descr=""/>
          <p:cNvPicPr/>
          <p:nvPr/>
        </p:nvPicPr>
        <p:blipFill>
          <a:blip r:embed="rId2"/>
          <a:stretch/>
        </p:blipFill>
        <p:spPr>
          <a:xfrm>
            <a:off x="2556000" y="4365720"/>
            <a:ext cx="380880" cy="406440"/>
          </a:xfrm>
          <a:prstGeom prst="rect">
            <a:avLst/>
          </a:prstGeom>
          <a:ln w="0">
            <a:noFill/>
          </a:ln>
        </p:spPr>
      </p:pic>
      <p:pic>
        <p:nvPicPr>
          <p:cNvPr id="272" name="Kuva 5" descr=""/>
          <p:cNvPicPr/>
          <p:nvPr/>
        </p:nvPicPr>
        <p:blipFill>
          <a:blip r:embed="rId3"/>
          <a:stretch/>
        </p:blipFill>
        <p:spPr>
          <a:xfrm>
            <a:off x="1908000" y="4797360"/>
            <a:ext cx="360360" cy="43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 txBox="1"/>
          <p:nvPr/>
        </p:nvSpPr>
        <p:spPr>
          <a:xfrm>
            <a:off x="611280" y="1267920"/>
            <a:ext cx="822960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ita edellisiä vähemmän sitovia EU:n säädöstyyppejä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osi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ausu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iedona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lmoit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Dian numeron paikkamerkki 2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30877-6388-4D25-892D-6A5AA02756D1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Alatunnisteen paikkamerkki 3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Kuva 7" descr=""/>
          <p:cNvPicPr/>
          <p:nvPr/>
        </p:nvPicPr>
        <p:blipFill>
          <a:blip r:embed="rId5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:n talous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457200" y="2060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in budjetti oli 141,5 miljardia 2010 (vrt. Suomen valtion budjetti 2010: 49,9 mr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i rahoittaa toiminnastaan yli 60% jäsenmailta kerättävistä</a:t>
            </a:r>
            <a:r>
              <a:rPr b="0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 jäsenmaksu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määräytyvät bkt:n ja väkiluvun muka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oinen tärkeä tulonlähde </a:t>
            </a:r>
            <a:r>
              <a:rPr b="0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tuontitullit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unionin ulkopuolisista maista tuotavista tuotteis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pyritään vähentämään, jotta kehitysmaiden tuotteet pääsisivät Euroopan markkinoi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7EFB-32EB-4392-B0FF-B1696B3435F4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Kuva 7" descr=""/>
          <p:cNvPicPr/>
          <p:nvPr/>
        </p:nvPicPr>
        <p:blipFill>
          <a:blip r:embed="rId4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imaat jakautuvat nettosaajiin ja nettomaksaji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nettomaksaja maksaa EU:lle jäsenmaksuja enemmän kuin saa sieltä tukiais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leensä vanhat ja pohjoiset jäsenmaat ovat nettomaksaj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udet ja eteläiset maat usein nettosaaj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so-Britannialla erityisasema: jäsenmaksuhuojennukset 1980-luvulta; muut maksavat brittien puol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Dian numeron paikkamerkki 2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824F4-E538-4395-B294-77D62CB744B4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latunnisteen paikkamerkki 3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Kuva 7" descr=""/>
          <p:cNvPicPr/>
          <p:nvPr/>
        </p:nvPicPr>
        <p:blipFill>
          <a:blip r:embed="rId5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roopan unionin menot 2010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367" name="Sisällön paikkamerkki 6" descr="eurooppa3 14.jpg"/>
          <p:cNvPicPr/>
          <p:nvPr/>
        </p:nvPicPr>
        <p:blipFill>
          <a:blip r:embed="rId1"/>
          <a:stretch/>
        </p:blipFill>
        <p:spPr>
          <a:xfrm>
            <a:off x="539640" y="1989000"/>
            <a:ext cx="6553440" cy="4300560"/>
          </a:xfrm>
          <a:prstGeom prst="rect">
            <a:avLst/>
          </a:prstGeom>
          <a:ln w="0">
            <a:noFill/>
          </a:ln>
        </p:spPr>
      </p:pic>
      <p:sp>
        <p:nvSpPr>
          <p:cNvPr id="368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06360-42B9-4EC5-824D-768650392DF5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Kuva 7" descr=""/>
          <p:cNvPicPr/>
          <p:nvPr/>
        </p:nvPicPr>
        <p:blipFill>
          <a:blip r:embed="rId2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:n talouden haasteita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aajentuminen on lisännyt kustannuk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ähes 80% EU:n kuluista maatalous- ja aluetukiin, jotka lisäävät vain vähän kilpailukyky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ietoyhteiskunta vaatii kilpailukykyä: tarve investoida koulutukseen, tutkimukseen ja liikentees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estävä kehitys vaatii lisäinvestoint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:n globaali toiminta vaatii lisäkulu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F3037-DBB2-4D78-A3B1-C0827B58CA9C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Kuva 7" descr=""/>
          <p:cNvPicPr/>
          <p:nvPr/>
        </p:nvPicPr>
        <p:blipFill>
          <a:blip r:embed="rId6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:n uskottavuusongelma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 kärsii monien kansalaistensa mielestä uskottavuusvajee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ansallisten ja unionin etujen välillä ristiriit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istiriidat näkyvät myös parlamentissa, jossa useita unionin vallan kaventamista vaativia ryhmi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utamat ryhmät ajavat maansa eroa EU: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ain Grönlanti eronnut yhteisöstä 198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01A11-1F28-4885-9B0D-16066E709498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0" name="Kuva 7" descr=""/>
          <p:cNvPicPr/>
          <p:nvPr/>
        </p:nvPicPr>
        <p:blipFill>
          <a:blip r:embed="rId6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Demokratiavaje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mokratiavaje = vallan legitimiteettiongelma eli vallan oikeutuksen ongelma: onko koko EU tarpeellin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ni unionin kansalainen kokee, että EU:lla ei ole mitään annettavaa eikä unionin päätöksentekoon voi mitenkään vaikutt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ämä näkyy laimeana osallistumisena EU-vaaleihin; äänestysprosentti yleensä alle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A379-1B32-43D3-B8D6-F0A00B467C65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Kuva 7" descr=""/>
          <p:cNvPicPr/>
          <p:nvPr/>
        </p:nvPicPr>
        <p:blipFill>
          <a:blip r:embed="rId4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105228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-kielteisyyden perusteita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7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iden oma kansallinen itsemääräämisoikeus (suvereenius) kaventu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 hyödyttää vain Brysselin herroja ja euroeliittiä, ei tavallista kans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i olemassa vain, jotta suuryritykset voivat kahmia voittoja sisämarkkino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hteinen rahapolitiikka ja valuutta eivät sovi kaikille unionima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5216-80AC-4891-AF81-828292314198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Kuva 7" descr=""/>
          <p:cNvPicPr/>
          <p:nvPr/>
        </p:nvPicPr>
        <p:blipFill>
          <a:blip r:embed="rId6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Alatunnisteen paikkamerkki 3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Dian numeron paikkamerkki 2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7413E-0DBF-42DE-B87D-C61F1742B70F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250560" y="4581000"/>
            <a:ext cx="7978680" cy="154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Naamioituneet kreikkalaiset osoittavat mieltään Eu:n rahapolitiikkaa vastaan Ateenassa 9.5.201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4" name="Picture 3" descr="C:\Users\Kaisa\AppData\Local\Temp\shutterstock_61734760.jpg"/>
          <p:cNvPicPr/>
          <p:nvPr/>
        </p:nvPicPr>
        <p:blipFill>
          <a:blip r:embed="rId2"/>
          <a:stretch/>
        </p:blipFill>
        <p:spPr>
          <a:xfrm>
            <a:off x="1187280" y="1557360"/>
            <a:ext cx="4897440" cy="2808360"/>
          </a:xfrm>
          <a:prstGeom prst="rect">
            <a:avLst/>
          </a:prstGeom>
          <a:ln w="0">
            <a:noFill/>
          </a:ln>
        </p:spPr>
      </p:pic>
      <p:pic>
        <p:nvPicPr>
          <p:cNvPr id="395" name="Kuva 7" descr=""/>
          <p:cNvPicPr/>
          <p:nvPr/>
        </p:nvPicPr>
        <p:blipFill>
          <a:blip r:embed="rId3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-myönteisyyden perusteita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isämarkkinat ja niiden tuomat ed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aajenevat taloudet ja markkinat unionin alue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ron tuoma taloudellinen vaka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aaja yhteistyö ja vuorovaikutus EU:n sisäll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aajat ja monipuoliset mahdollisuudet kansalais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4 vapautta, Schengenin sopim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urvallisu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E32E-742A-4E69-8B32-92CAB8D2267E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Kuva 7" descr=""/>
          <p:cNvPicPr/>
          <p:nvPr/>
        </p:nvPicPr>
        <p:blipFill>
          <a:blip r:embed="rId7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19280" y="1197000"/>
            <a:ext cx="706752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:n toimielime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:n tärkeimmät toimielimet ov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) Eurooppa-neuvosto eli huippukoko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2) Euroopan parlament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3) Euroopan unionin neuvosto eli ministerineuvos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4) Euroopan komiss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ut toimielimet valvovat, antavat neuvoja ja valmistelevat edellisten toiminta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5F152-E14B-4832-B541-159426B91EC2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Kuva 7" descr=""/>
          <p:cNvPicPr/>
          <p:nvPr/>
        </p:nvPicPr>
        <p:blipFill>
          <a:blip r:embed="rId6"/>
          <a:stretch/>
        </p:blipFill>
        <p:spPr>
          <a:xfrm>
            <a:off x="7812000" y="47628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rilaisia tapoja suhtautua unioniin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2" name=""/>
          <p:cNvSpPr txBox="1"/>
          <p:nvPr/>
        </p:nvSpPr>
        <p:spPr>
          <a:xfrm>
            <a:off x="457200" y="2205000"/>
            <a:ext cx="822960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1)  eurofiil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tavoitteena Euroopan federalistinen liittovaltio, joka lopettaa kansallisvaltioiden ristiriid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2) euroskeptik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yhdentymisen tausta oli kylmässä sod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Neuvostoliiton hajottua yhdentymiselle ei ole nykyään enää tarve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06ECD-89C0-497F-BAFD-289D1737E3AB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Kuva 7" descr=""/>
          <p:cNvPicPr/>
          <p:nvPr/>
        </p:nvPicPr>
        <p:blipFill>
          <a:blip r:embed="rId1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457200" y="1484280"/>
            <a:ext cx="82296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3) euro-optimist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henkinen ilmasto Euroopassa valmis yhdentymis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egraatio hyödyttää talouselämää ja yritystoimint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4) europessimist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orostavat nationalismia, kansallista kulttuuria ja talou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annattajia etenkin uusissa EU-mai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vät usko ”kansalaisten Eurooppaa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Dian numeron paikkamerkki 2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56ED2-5E20-4C90-B8BF-BF6325F37E04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latunnisteen paikkamerkki 3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Kuva 7" descr=""/>
          <p:cNvPicPr/>
          <p:nvPr/>
        </p:nvPicPr>
        <p:blipFill>
          <a:blip r:embed="rId6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Tehtäviä: Toimielime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lvitä Euroopan parlamentin asema ja tehtävät Euroopan unionin päätöksenteossa 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Yo-tehtävä, kevät 200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taile komission ja ministerineuvoston tehtäviä ja roolia unionis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ikä on Eurooppa-neuvoston tehtävä EU:n päätöksenteos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ta selville, mitä asioita kukin europuolue ajaa (puolueet s. 76).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5"/>
          <p:cNvSpPr/>
          <p:nvPr/>
        </p:nvSpPr>
        <p:spPr>
          <a:xfrm>
            <a:off x="5508720" y="549360"/>
            <a:ext cx="2879640" cy="1295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Teht. 4: Käytä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nternetlähteitä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4CF2B-B2B6-4847-9270-68E23E0D9307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5" name="Kuva 9" descr=""/>
          <p:cNvPicPr/>
          <p:nvPr/>
        </p:nvPicPr>
        <p:blipFill>
          <a:blip r:embed="rId1"/>
          <a:stretch/>
        </p:blipFill>
        <p:spPr>
          <a:xfrm>
            <a:off x="8388360" y="189000"/>
            <a:ext cx="38088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Tehtäviä: Päätöksenteko ja säädöstyypi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457200" y="227628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Euroopan unionin päätöstyypit ovat asetus, direktiivi ja päätös. Miten kukin niistä vaikuttaa jäsenmaiden lainsäädäntöö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Yo-tehtävä, kevät 200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2)       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itkä tehtävät komissiolla, parlamentilla ja ministerineuvostolla on lainsäädännössä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iten parlamentin rooli lainsäädännössä vaihtelee eri päätöksentekotavoiss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65000"/>
              <a:buFont typeface="Calibri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elvitä, mikä on EU:n kansalaisalo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6"/>
          <p:cNvSpPr/>
          <p:nvPr/>
        </p:nvSpPr>
        <p:spPr>
          <a:xfrm>
            <a:off x="6156360" y="476280"/>
            <a:ext cx="22320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Teht. 4: Käytä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Arial"/>
              </a:rPr>
              <a:t>Internetlähteitä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Dian numeron paikkamerkki 5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F0525-84F7-4180-AA12-F311155699F2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Alatunnisteen paikkamerkki 6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Kuva 9" descr=""/>
          <p:cNvPicPr/>
          <p:nvPr/>
        </p:nvPicPr>
        <p:blipFill>
          <a:blip r:embed="rId1"/>
          <a:stretch/>
        </p:blipFill>
        <p:spPr>
          <a:xfrm>
            <a:off x="8459640" y="260280"/>
            <a:ext cx="38124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2876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Tehtäviä: EU:n talous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istä EU saa tulon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ihin EU kohdentaa menon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uinka unionin tuloja on esitetty lisättäväks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ohdi, mitä etuja jäsenmaa saa EU:n jäsenmaksun vastineeks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ohdi, mitkä tekijät voivat uhata unionin talout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BF916-B611-4A3F-8E9C-A90FFF8C2808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Kuva 9" descr=""/>
          <p:cNvPicPr/>
          <p:nvPr/>
        </p:nvPicPr>
        <p:blipFill>
          <a:blip r:embed="rId1"/>
          <a:stretch/>
        </p:blipFill>
        <p:spPr>
          <a:xfrm>
            <a:off x="7956720" y="549360"/>
            <a:ext cx="38088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Tehtäviä: Uskottavuusvaje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itä tarkoittavat seuraavat käsitte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a) uskottavuusvaje, b) demokratiavaje 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) vallan legitimiteettiongelm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itä tarkoittaa EU:n toissijaisuus- eli subsidiariteettiperiaat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arkastele äänestysaktiivisuusasetelmaa s. 89. Analysoi maiden välisiä eroja ja pohdi selityksiä äänestysaktiivisuuden eroi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B007-211B-47F9-9633-2944FADBD521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Kuva 9" descr=""/>
          <p:cNvPicPr/>
          <p:nvPr/>
        </p:nvPicPr>
        <p:blipFill>
          <a:blip r:embed="rId1"/>
          <a:stretch/>
        </p:blipFill>
        <p:spPr>
          <a:xfrm>
            <a:off x="7956720" y="549360"/>
            <a:ext cx="38088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169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800" spc="-1" strike="noStrike">
                <a:solidFill>
                  <a:srgbClr val="800000"/>
                </a:solidFill>
                <a:latin typeface="Calibri"/>
              </a:rPr>
              <a:t>8 Suomi Euroopan unionissa</a:t>
            </a:r>
            <a:endParaRPr b="1" lang="en-US" sz="4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ppikirjan sivut 90-9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Ydinsisällö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untitehtävä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ppikirjan tehtävien vastauk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E644E-32F4-4F56-9B1D-8433A65ACEA3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Kuva 7" descr=""/>
          <p:cNvPicPr/>
          <p:nvPr/>
        </p:nvPicPr>
        <p:blipFill>
          <a:blip r:embed="rId1"/>
          <a:stretch/>
        </p:blipFill>
        <p:spPr>
          <a:xfrm>
            <a:off x="3132000" y="4292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37" name="Kuva 9" descr=""/>
          <p:cNvPicPr/>
          <p:nvPr/>
        </p:nvPicPr>
        <p:blipFill>
          <a:blip r:embed="rId2"/>
          <a:stretch/>
        </p:blipFill>
        <p:spPr>
          <a:xfrm>
            <a:off x="2843280" y="4724280"/>
            <a:ext cx="380880" cy="406440"/>
          </a:xfrm>
          <a:prstGeom prst="rect">
            <a:avLst/>
          </a:prstGeom>
          <a:ln w="0">
            <a:noFill/>
          </a:ln>
        </p:spPr>
      </p:pic>
      <p:pic>
        <p:nvPicPr>
          <p:cNvPr id="438" name="Kuva 5" descr=""/>
          <p:cNvPicPr/>
          <p:nvPr/>
        </p:nvPicPr>
        <p:blipFill>
          <a:blip r:embed="rId3"/>
          <a:stretch/>
        </p:blipFill>
        <p:spPr>
          <a:xfrm>
            <a:off x="1835280" y="5084640"/>
            <a:ext cx="43308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Suomen liittyminen EU:n jäseneksi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omen kansainvälinen asema muuttui 1980- ja 1990-luvun vaihte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←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ylmän sodan loppu, Neuvostoliiton muutokset ja hajoaminen 199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- aiemmin NL pyrki estämään Suomea liittymästä läntisiin järjestöih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omelle tuli tilaisuus lähteä mukaan Länsi-Euroopan yhdentymis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58F6D-6E31-40FE-9AF4-E6F078631D88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3" name="Kuva 7" descr=""/>
          <p:cNvPicPr/>
          <p:nvPr/>
        </p:nvPicPr>
        <p:blipFill>
          <a:blip r:embed="rId3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989 Suomi aloitti EY:n kanssa neuvottelut liittymisestä ETA:een (Euroopan talousalue = EY:n ja EFTA:n yhteistalous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992 Suomi haki EY:n jäsenyyttä yhdessä Ruotsin, Itävallan ja Norjan kan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994 kansanäänestys Suomen liittymisestä EU:hun; tulos: 57% puolesta, 43% vas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994 eduskunta päätti lopullisesti liittymisest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995 Suomi mukaan unioniin Ruotsin ja Itävallan kans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Dian numeron paikkamerkki 2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2A19-E77A-49D3-8EAF-0065DCC46A3F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Alatunnisteen paikkamerkki 3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7" name="Kuva 7" descr=""/>
          <p:cNvPicPr/>
          <p:nvPr/>
        </p:nvPicPr>
        <p:blipFill>
          <a:blip r:embed="rId6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84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800000"/>
                </a:solidFill>
                <a:latin typeface="Calibri"/>
              </a:rPr>
              <a:t>Suomi unioniin vai ei – perusteita 1994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9" name=""/>
          <p:cNvSpPr txBox="1"/>
          <p:nvPr/>
        </p:nvSpPr>
        <p:spPr>
          <a:xfrm>
            <a:off x="457200" y="2421000"/>
            <a:ext cx="40384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000000"/>
                </a:solidFill>
                <a:uFillTx/>
                <a:latin typeface="Calibri"/>
              </a:rPr>
              <a:t>Puol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urvallisuuspolitiikka: Venäjän olot sekavat 1990-luvun alu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inutlaatuinen tilaisuus liittyä läntiseen yhteisöö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uomen ”läntisyyden sinetöint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4716000" y="2421000"/>
            <a:ext cx="40388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000000"/>
                </a:solidFill>
                <a:uFillTx/>
                <a:latin typeface="Calibri"/>
              </a:rPr>
              <a:t>Vast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urvallisuuspolitiikka: Venäjä liitosta vast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päätösvalta siirtyy Brysseli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tsenäisyys menetetää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maatalous ei sopeudu EU:n yhteiseen maatalouspolitiikka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pakolaisuus, rikollisuus ja vieraat vaikutteet Suome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70188-8657-4446-8965-53340D4534C3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Kuva 7" descr=""/>
          <p:cNvPicPr/>
          <p:nvPr/>
        </p:nvPicPr>
        <p:blipFill>
          <a:blip r:embed="rId9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1) Eurooppa-neuvosto eli huippukokous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äsenmaiden hallitusten pääministerit ja joidenkin maiden valtionpäämieh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oolla muutaman kerran vuod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okoontuu Brysselissä tai EU:n puheenjohtajama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taa poliittiset linjauk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rooppa-neuvoston puheenjohtaja on EU:n ”presidentti”, jonka toimikausi 2½ vuo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99975-AD59-4881-A7A3-2E999F82C71F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Kuva 7" descr=""/>
          <p:cNvPicPr/>
          <p:nvPr/>
        </p:nvPicPr>
        <p:blipFill>
          <a:blip r:embed="rId6"/>
          <a:stretch/>
        </p:blipFill>
        <p:spPr>
          <a:xfrm>
            <a:off x="8028000" y="40464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fi-FI" sz="4000" spc="-1" strike="noStrike">
                <a:solidFill>
                  <a:srgbClr val="800000"/>
                </a:solidFill>
                <a:latin typeface="Calibri"/>
              </a:rPr>
              <a:t>Mikä muuttui, mikä ei jäsenyyden myötä?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>
            <a:off x="457200" y="2421000"/>
            <a:ext cx="40384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000000"/>
                </a:solidFill>
                <a:uFillTx/>
                <a:latin typeface="Calibri"/>
              </a:rPr>
              <a:t>Muuttu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kulutustavarat halpeniv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Suomen suljetuille markkinoille EU:n sisämarkkinoiden myötä kilpailevia tuotte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U-lainsäädäntö voimaan: oma lainsäädäntövalta vähe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vapaus matkustaa, opiskella ja työskennellä vapaasti EU:n alueel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 txBox="1"/>
          <p:nvPr/>
        </p:nvSpPr>
        <p:spPr>
          <a:xfrm>
            <a:off x="4648320" y="2421000"/>
            <a:ext cx="403848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 u="sng">
                <a:solidFill>
                  <a:srgbClr val="000000"/>
                </a:solidFill>
                <a:uFillTx/>
                <a:latin typeface="Calibri"/>
              </a:rPr>
              <a:t>Ei muuto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muut EU-kansalaiset eivät rynnänneet ostamaan vapaa-ajan asuntoja Suom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alkoholimonopoli ↔ ongelma sopeutuminen alkoholin vapaaseen tuonti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kansallinen kulttuuri muuttui vähä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15AA0-351E-4D9E-830E-618CD8BFAB7B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9" name="Kuva 7" descr=""/>
          <p:cNvPicPr/>
          <p:nvPr/>
        </p:nvPicPr>
        <p:blipFill>
          <a:blip r:embed="rId8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Suomen toimintalinja EU:ssa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omi on ollut aktiivinen EU:n jäs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omi pyrki päätöksenteon ytimeen 1995-2003 (pääministeri Paavo Lipposen linja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omi aktiivisempi kuin muut Pohjoismaat, vrt. Ruotsi ja Tanska esim. euron ulkopuol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gelmia EU-suhteessa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maatalous (pohjoinen sijainti, erityistukien tarv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turvallisuuspolitiikka (Suomi ei Naton jäsen; Suomi sitoutunut EU:n yhteiseen turvallisuuspolitiikkaa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E85DE-232E-49F4-AF9E-D2445C77DBC5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Kuva 7" descr=""/>
          <p:cNvPicPr/>
          <p:nvPr/>
        </p:nvPicPr>
        <p:blipFill>
          <a:blip r:embed="rId5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-asioista päättäminen Suomessa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-asiat eivät ole Suomessa ulkopolitiikkaa tai kansainvälisiä suhteita vaan sisäpolitiikk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pääministeri johtaa, kuten muutakin sisäpolitiikka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arlamentarismin mukaise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) eduskunta päättää EU-asioista Suom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2) valtioneuvosto valmistelee EU-asiat  eduskunnan päätettävä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02C16-36FB-4239-A23E-CF7F98182FFC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Kuva 7" descr=""/>
          <p:cNvPicPr/>
          <p:nvPr/>
        </p:nvPicPr>
        <p:blipFill>
          <a:blip r:embed="rId3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 txBox="1"/>
          <p:nvPr/>
        </p:nvSpPr>
        <p:spPr>
          <a:xfrm>
            <a:off x="468360" y="1196640"/>
            <a:ext cx="8229600" cy="49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duskunta käsittelee unionin säädösehdotukset, jotka kuuluvat eduskunnan toimival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uri valiokun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EU-valiokunta, 25 jäsen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varmistaa eduskunnan vaikutuksen ja parlamentaarisen valvonnan EU-asioi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lmaisee eduskunnan kannan EU-asioi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rikoisvaliokunn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antavat lausuntoja omaan alaansa liittyvissä EU-asioissa suurelle valiokunna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Dian numeron paikkamerkki 2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64E3-EFE0-4C9D-866A-D7E57BBD74BC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latunnisteen paikkamerkki 3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Kuva 7" descr=""/>
          <p:cNvPicPr/>
          <p:nvPr/>
        </p:nvPicPr>
        <p:blipFill>
          <a:blip r:embed="rId4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1267920"/>
            <a:ext cx="8229600" cy="48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800000"/>
                </a:solidFill>
                <a:latin typeface="Calibri"/>
              </a:rPr>
              <a:t>EU-säädösehdotuksen käsittely unionissa ja Suomessa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5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DB879-4ECC-455C-9CEB-492646A1FBA6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Kuva 7" descr=""/>
          <p:cNvPicPr/>
          <p:nvPr/>
        </p:nvPicPr>
        <p:blipFill>
          <a:blip r:embed="rId1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  <p:pic>
        <p:nvPicPr>
          <p:cNvPr id="478" name="Sisällön paikkamerkki 7" descr="4 20.jpg"/>
          <p:cNvPicPr/>
          <p:nvPr/>
        </p:nvPicPr>
        <p:blipFill>
          <a:blip r:embed="rId2"/>
          <a:stretch/>
        </p:blipFill>
        <p:spPr>
          <a:xfrm>
            <a:off x="2050920" y="2492280"/>
            <a:ext cx="4272120" cy="4176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Tehtäviä: suomalaiset ja unioni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itkä tekijät mahdollistivat Suomen liittymisen Euroopan unioni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etkä vastustivat, ketkä kannattivat Suomen liittymistä unioni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itä uhkia ja mitä mahdollisuuksia ajateltiin EU-jäsenyyden tuovan tullessaan? Miten nämä toteutuiv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lvitä, miten EU-asioista päätetään Suomen poliittisessa järjestelmässä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4E0D4-CBE9-4EF7-B257-A859FF746B36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Kuva 9" descr=""/>
          <p:cNvPicPr/>
          <p:nvPr/>
        </p:nvPicPr>
        <p:blipFill>
          <a:blip r:embed="rId1"/>
          <a:stretch/>
        </p:blipFill>
        <p:spPr>
          <a:xfrm>
            <a:off x="7956720" y="620640"/>
            <a:ext cx="38088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Tehtäviä: Suomi ja EU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ue fokusaukema  s. 96-97 ”Kansalaisten kokemuksia Euroopan unionista” ja pohdi, missä määrin ja miksi monet suomalaiset suhtautuvat torjuvasti unioni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ohdi omaa suhtautumistasi unioniin, ja perustele kanta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ohdi, mitä hyötyjä ja haittoja Suomelle olisi koitunut, jos se olisi jäänyt EU:n ulkopuole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D1A7E-334E-4E86-A22F-E41DE9E678C7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Kuva 9" descr=""/>
          <p:cNvPicPr/>
          <p:nvPr/>
        </p:nvPicPr>
        <p:blipFill>
          <a:blip r:embed="rId1"/>
          <a:stretch/>
        </p:blipFill>
        <p:spPr>
          <a:xfrm>
            <a:off x="7956720" y="549360"/>
            <a:ext cx="38088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755280" y="1268280"/>
            <a:ext cx="7931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2) Euroopan parlamentti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736 jäsentä eli europarlamentaarikkoa (meppiä) kaikista jäsenma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okoontuu Strasbourgissa Ranskassa ja Brysselissä Belgi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äsenet valitaan yleisillä vaale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stuntokausi 5 vuo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dustajien määrä suhteessa maan väkilukuun; Suomella 13 edustaj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6FC7F-DF7B-490F-94C8-EF07D90ED69A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Kuva 7" descr=""/>
          <p:cNvPicPr/>
          <p:nvPr/>
        </p:nvPicPr>
        <p:blipFill>
          <a:blip r:embed="rId6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7200" y="1123560"/>
            <a:ext cx="822960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pit kuuluvat europuolueisiin omien kansallisten puolueidensa muk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yöskentelymuotoja täysistunnot ja 20 valiokunt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äätää asetukset, direktiivit ja unionin budjetin yhdessä ministerineuvoston kan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alvoo päätösten toimeenpan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alvoo demokratian toteutumist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oikeus valita komission jäsen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oikeus erottaa komissio epäluottamuslausee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Dian numeron paikkamerkki 2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B4862-5A40-4ED9-B1C8-A090D7137E47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latunnisteen paikkamerkki 3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Kuva 7" descr=""/>
          <p:cNvPicPr/>
          <p:nvPr/>
        </p:nvPicPr>
        <p:blipFill>
          <a:blip r:embed="rId6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3) Euroopan unionin neuvosto eli ministerineuvosto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27 jäsentä eli jäsenmaiden hallitusten minister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hdeksän eri kokoonpanoa: kunkin toimialan ministerit muodostavat oman kokoonpanonsa (esim. maatalousminister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äätöksenteko: painotetut äänimäärät suhteessa maan väkilukuun; Suomella 7 äänt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niten valtaa ja ylin päätöksentekijä EU: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EF214-71C6-4ADE-B2D5-4E65247A7A01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" name="Kuva 7" descr=""/>
          <p:cNvPicPr/>
          <p:nvPr/>
        </p:nvPicPr>
        <p:blipFill>
          <a:blip r:embed="rId5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äätää lait (asetukset ja direktiivit) yhdessä parlamentin kan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olmii EU:n kansainväliset sopimukset kolmansien maiden (eli unioniin kuulumattomien valtioiden) kan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ehittää EU:n ulko- ja turvallisuuspolitiikk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äätökset tehdään jok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1) yksimielisest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2) enemmistöpäätöksellä t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3) määräenemmistöllä (joko 73,9% neuvoston äänistä tai 62% unionin väestöstä päätöksen taka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Dian numeron paikkamerkki 2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EC470-A47F-47E6-A640-D0ECFC37A7E9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Alatunnisteen paikkamerkki 3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Kuva 7" descr=""/>
          <p:cNvPicPr/>
          <p:nvPr/>
        </p:nvPicPr>
        <p:blipFill>
          <a:blip r:embed="rId5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000" y="1125000"/>
            <a:ext cx="800244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4) Euroopan komissio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27 jäsentä eli komissaaria, kausi 5 vuo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äsenmaista riippumaton ylikansallinen e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jaa koko unionin etu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oiteoikeus lainsäädännöss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alvoo päätösten toimeenpanoa, EU:n varojen käyttöä ja perussopimusten noudattam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iistanalainen: käyttää suurta valtaa, mutta ei ole kansalaisten valitsem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2A869-634D-4F3F-B024-EF57B2D6AD25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" name="Kuva 7" descr=""/>
          <p:cNvPicPr/>
          <p:nvPr/>
        </p:nvPicPr>
        <p:blipFill>
          <a:blip r:embed="rId7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5T05:55:11Z</dcterms:created>
  <dc:creator>juhana</dc:creator>
  <dc:description/>
  <dc:language>en-US</dc:language>
  <cp:lastModifiedBy>sme</cp:lastModifiedBy>
  <dcterms:modified xsi:type="dcterms:W3CDTF">2011-08-10T08:39:27Z</dcterms:modified>
  <cp:revision>48</cp:revision>
  <dc:subject/>
  <dc:title>Euroopan unioni n</dc:title>
</cp:coreProperties>
</file>